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1B3-7E4B-4C4F-98A7-674893B4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695-8C23-404F-8175-6A9E840F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880-072C-4358-A6C1-4CA18291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42A-1ADA-4B3B-87C2-23E5EFFE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AE7-C716-4CD7-9768-056BDDB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172-A333-44F0-8D59-F3269520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FE0-B319-4627-AF0A-F452A6D7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98C-EC94-46DB-BB12-16A2E8EC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B5C-E9E9-4236-987B-60CB6437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10F-743B-45E6-83A3-7BAB095A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6CF-1189-41DA-9BFB-20361A3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7DF-8E3B-44D8-8AD3-68D6F416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BB2-D8B8-49E4-9E9A-F9A4AF3A3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57120" y="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8240" y="357120"/>
            <a:ext cx="7589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storm</cp:lastModifiedBy>
  <dcterms:modified xsi:type="dcterms:W3CDTF">2010-01-19T13:14:01Z</dcterms:modified>
  <cp:revision>74</cp:revision>
  <dc:subject/>
  <dc:title>Слайд 1</dc:title>
</cp:coreProperties>
</file>